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F1B0-02BB-46EF-A035-7D152386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943-4906-47BC-A06A-F3BFF419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ED2-0FCA-409C-90F6-18299933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DA5E-0B10-494C-9480-048F330E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5AE0-40AA-4EDE-A710-66FA90F8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064B-C0F7-414C-99FE-2C70B00A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D49-221F-443B-8944-BAD968AC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D5F-60F2-4A5A-884E-AF96C9A5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FF37-13ED-4ADD-8C64-54716AB3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B4D0-A3A7-4BF1-BA4E-26AE6F2D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3DC-92A7-450A-A66A-49970C42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934-F9C0-4310-88D6-4E0C39CC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A46D-3BA9-44B0-9FC4-781511914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pareja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Ma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a. Yo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y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 la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sotro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dalena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ánor y Elio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De dónde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tú, Alfredo, 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i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Completa,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use the correct form of the verb 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 (1)_______ Mariana Gálvez.  Ella (2)_____ mi mejor amiga.  Ella y su familia (3)________ de Guatemala.  Mariana y yo (4)___________ estudiantes del 10 grado.  El señor y la señora Gálvez (5) _________ profesores de ciencias.  Yo (6) __________ una estudiante en la clase de la señora Gálv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95680" y="259092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.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soy Juan Quint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95680" y="32608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. es mar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39625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. c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uatro 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35812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.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somos estudiantes  de españ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28954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. e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s de Per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150804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.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son de Méx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188928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.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es la profesora Jimene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22096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.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de dónde e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182520"/>
            <a:ext cx="90676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Me llamo ______________         Clase 6nh (601)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a fecha es ________________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area #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152280"/>
            <a:ext cx="876312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¡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o, no es cierto!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 Rewrite using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 teléfono es 212-35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y es domin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ted es mi profe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y es el primero de ago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i="1" lang="es-ES_tradnl" sz="2500" spc="-1" strike="noStrike" u="sng">
                <a:solidFill>
                  <a:srgbClr val="000000"/>
                </a:solidFill>
                <a:uFillTx/>
                <a:latin typeface="Arial"/>
              </a:rPr>
              <a:t>Escribe</a:t>
            </a:r>
            <a:r>
              <a:rPr b="0" i="1" lang="es-ES_tradnl" sz="2500" spc="-1" strike="noStrike">
                <a:solidFill>
                  <a:srgbClr val="000000"/>
                </a:solidFill>
                <a:latin typeface="Arial"/>
              </a:rPr>
              <a:t>. With the following subjects, finish the sentence using the verb SER.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Usted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Yo…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Laura…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Ustedes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El señor Ortega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Josué y Reynaldo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Nosotras…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2:55:16Z</dcterms:created>
  <dc:creator>Helen Zumaeta</dc:creator>
  <dc:description/>
  <dc:language>en-US</dc:language>
  <cp:lastModifiedBy>Helen Zumaeta</cp:lastModifiedBy>
  <dcterms:modified xsi:type="dcterms:W3CDTF">2012-10-15T19:55:29Z</dcterms:modified>
  <cp:revision>2</cp:revision>
  <dc:subject/>
  <dc:title>Slide 1</dc:title>
</cp:coreProperties>
</file>